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92F-6402-45BA-B3AD-267B4B02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617-EB2C-46BF-8B9F-209045FF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B1C-988C-432A-92A2-FDEF870E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9F7-8C4B-44F9-8483-DBBFD1B0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2E35-CF72-49A4-A7FD-0C82F08E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2E0-D6A4-4CE6-880D-D9D2620D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F35-2E3B-4C37-8E81-988CACC6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AE5-217F-4C8C-B12D-A8FB6D9B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F0C-3935-4AF6-811D-053246DB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992B-D568-4C03-BBEF-DF023AB4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9CD-25D1-4AF4-A3B2-AB55E8A8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3FA-C15C-4E84-AADE-BE292C0C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8BF9-6A30-4A2D-9217-11456091F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9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phing Square-root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0" y="1143000"/>
          <a:ext cx="487692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143000"/>
                    <a:ext cx="48769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28600" y="18288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1828800"/>
            <a:ext cx="510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ll nonnegative numb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2860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g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2286000"/>
            <a:ext cx="701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Times New Roman"/>
              </a:rPr>
              <a:t>all numbers greater than or equal to </a:t>
            </a:r>
            <a:r>
              <a:rPr b="1" i="1" lang="en-US" sz="3000" spc="-1" strike="noStrike">
                <a:solidFill>
                  <a:srgbClr val="0099cc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2819520"/>
          <a:ext cx="296712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819520"/>
                    <a:ext cx="29671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04920" y="34290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8862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g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4191120"/>
            <a:ext cx="3200400" cy="2361960"/>
            <a:chOff x="380880" y="4191120"/>
            <a:chExt cx="3200400" cy="2361960"/>
          </a:xfrm>
        </p:grpSpPr>
        <p:sp>
          <p:nvSpPr>
            <p:cNvPr id="54" name=""/>
            <p:cNvSpPr/>
            <p:nvPr/>
          </p:nvSpPr>
          <p:spPr>
            <a:xfrm>
              <a:off x="380880" y="51814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0880" y="56386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0880" y="60958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0880" y="65530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47242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5000" y="43434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9920" y="4191120"/>
              <a:ext cx="41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44200" y="4191120"/>
              <a:ext cx="41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1905120" y="3429000"/>
          <a:ext cx="116820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3429000"/>
                    <a:ext cx="11682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905120" y="3886200"/>
          <a:ext cx="1127160" cy="63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3886200"/>
                    <a:ext cx="11271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80880" y="46483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1055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55627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0199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914400" y="4724280"/>
          <a:ext cx="179064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724280"/>
                    <a:ext cx="17906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590920" y="4800600"/>
          <a:ext cx="54612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4800600"/>
                    <a:ext cx="546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946080" y="5181480"/>
          <a:ext cx="1727280" cy="573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46080" y="5181480"/>
                    <a:ext cx="17272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577960" y="5257800"/>
          <a:ext cx="57312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77960" y="525780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914400" y="5638680"/>
          <a:ext cx="1790640" cy="573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14400" y="5638680"/>
                    <a:ext cx="17906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590920" y="5715000"/>
          <a:ext cx="54612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90920" y="5715000"/>
                    <a:ext cx="546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914400" y="6095880"/>
          <a:ext cx="179064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14400" y="6095880"/>
                    <a:ext cx="17906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577960" y="6172200"/>
          <a:ext cx="573120" cy="380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77960" y="6172200"/>
                    <a:ext cx="573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" name=""/>
          <p:cNvGrpSpPr/>
          <p:nvPr/>
        </p:nvGrpSpPr>
        <p:grpSpPr>
          <a:xfrm>
            <a:off x="4648320" y="3505320"/>
            <a:ext cx="2743200" cy="2743200"/>
            <a:chOff x="4648320" y="3505320"/>
            <a:chExt cx="2743200" cy="2743200"/>
          </a:xfrm>
        </p:grpSpPr>
        <p:grpSp>
          <p:nvGrpSpPr>
            <p:cNvPr id="87" name=""/>
            <p:cNvGrpSpPr/>
            <p:nvPr/>
          </p:nvGrpSpPr>
          <p:grpSpPr>
            <a:xfrm>
              <a:off x="4648320" y="3505320"/>
              <a:ext cx="2743200" cy="2743200"/>
              <a:chOff x="4648320" y="3505320"/>
              <a:chExt cx="2743200" cy="2743200"/>
            </a:xfrm>
          </p:grpSpPr>
          <p:sp>
            <p:nvSpPr>
              <p:cNvPr id="88" name=""/>
              <p:cNvSpPr/>
              <p:nvPr/>
            </p:nvSpPr>
            <p:spPr>
              <a:xfrm>
                <a:off x="4648320" y="62485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48320" y="59436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648320" y="56386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648320" y="53341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48320" y="50292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48320" y="47242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648320" y="44197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48320" y="41148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48320" y="38098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48320" y="35053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64832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5324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5816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6272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6764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7256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7712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8204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8696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9152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419720" y="3276720"/>
            <a:ext cx="3200400" cy="3200400"/>
            <a:chOff x="4419720" y="3276720"/>
            <a:chExt cx="3200400" cy="3200400"/>
          </a:xfrm>
        </p:grpSpPr>
        <p:sp>
          <p:nvSpPr>
            <p:cNvPr id="109" name=""/>
            <p:cNvSpPr/>
            <p:nvPr/>
          </p:nvSpPr>
          <p:spPr>
            <a:xfrm flipV="1">
              <a:off x="4952880" y="32767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5943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876920" y="55627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952880"/>
            <a:ext cx="15264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4343400"/>
            <a:ext cx="15264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37339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1" idx="7"/>
          </p:cNvCxnSpPr>
          <p:nvPr/>
        </p:nvCxnSpPr>
        <p:spPr>
          <a:xfrm flipV="1">
            <a:off x="5006880" y="3656880"/>
            <a:ext cx="4137840" cy="1928520"/>
          </a:xfrm>
          <a:prstGeom prst="curvedConnector3">
            <a:avLst>
              <a:gd name="adj1" fmla="val 2541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phing Square-root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0" y="1143000"/>
          <a:ext cx="487692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143000"/>
                    <a:ext cx="48769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28600" y="2209680"/>
          <a:ext cx="3049560" cy="7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209680"/>
                    <a:ext cx="30495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04920" y="29718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34290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g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80880" y="3962520"/>
            <a:ext cx="3200400" cy="2361960"/>
            <a:chOff x="380880" y="3962520"/>
            <a:chExt cx="3200400" cy="2361960"/>
          </a:xfrm>
        </p:grpSpPr>
        <p:sp>
          <p:nvSpPr>
            <p:cNvPr id="125" name=""/>
            <p:cNvSpPr/>
            <p:nvPr/>
          </p:nvSpPr>
          <p:spPr>
            <a:xfrm>
              <a:off x="380880" y="49528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54100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880" y="58672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880" y="63244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880" y="44956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000" y="4114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9920" y="3962520"/>
              <a:ext cx="41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44200" y="3962520"/>
              <a:ext cx="41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1905120" y="2971800"/>
          <a:ext cx="116820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971800"/>
                    <a:ext cx="11682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828800" y="3429000"/>
          <a:ext cx="1419120" cy="63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8800" y="3429000"/>
                    <a:ext cx="14191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80880" y="44197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8769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53341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57913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14400" y="4495680"/>
          <a:ext cx="179064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495680"/>
                    <a:ext cx="17906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590920" y="4572000"/>
          <a:ext cx="75564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4572000"/>
                    <a:ext cx="755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946080" y="4952880"/>
          <a:ext cx="1727280" cy="573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46080" y="4952880"/>
                    <a:ext cx="17272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590920" y="5029200"/>
          <a:ext cx="54612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5029200"/>
                    <a:ext cx="546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914400" y="5410080"/>
          <a:ext cx="1790640" cy="573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14400" y="5410080"/>
                    <a:ext cx="17906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577960" y="5486400"/>
          <a:ext cx="57312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77960" y="548640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914400" y="5867280"/>
          <a:ext cx="179064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14400" y="5867280"/>
                    <a:ext cx="17906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90920" y="5943600"/>
          <a:ext cx="546120" cy="380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90920" y="5943600"/>
                    <a:ext cx="546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7" name=""/>
          <p:cNvGrpSpPr/>
          <p:nvPr/>
        </p:nvGrpSpPr>
        <p:grpSpPr>
          <a:xfrm>
            <a:off x="4648320" y="3048120"/>
            <a:ext cx="2743200" cy="2743200"/>
            <a:chOff x="4648320" y="3048120"/>
            <a:chExt cx="2743200" cy="2743200"/>
          </a:xfrm>
        </p:grpSpPr>
        <p:grpSp>
          <p:nvGrpSpPr>
            <p:cNvPr id="158" name=""/>
            <p:cNvGrpSpPr/>
            <p:nvPr/>
          </p:nvGrpSpPr>
          <p:grpSpPr>
            <a:xfrm>
              <a:off x="4648320" y="3048120"/>
              <a:ext cx="2743200" cy="2743200"/>
              <a:chOff x="4648320" y="3048120"/>
              <a:chExt cx="2743200" cy="2743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648320" y="57913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48320" y="54864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48320" y="51814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48320" y="48769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48320" y="45720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48320" y="42670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648320" y="39625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648320" y="36576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48320" y="33526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648320" y="30481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64832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324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816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6272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6764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256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7712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8204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8696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9152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419720" y="2819520"/>
            <a:ext cx="3200400" cy="3200400"/>
            <a:chOff x="4419720" y="2819520"/>
            <a:chExt cx="3200400" cy="3200400"/>
          </a:xfrm>
        </p:grpSpPr>
        <p:sp>
          <p:nvSpPr>
            <p:cNvPr id="180" name=""/>
            <p:cNvSpPr/>
            <p:nvPr/>
          </p:nvSpPr>
          <p:spPr>
            <a:xfrm flipV="1">
              <a:off x="4952880" y="28195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19720" y="48769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876920" y="51055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495680"/>
            <a:ext cx="15264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3886200"/>
            <a:ext cx="15264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0120" y="32767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2" idx="7"/>
          </p:cNvCxnSpPr>
          <p:nvPr/>
        </p:nvCxnSpPr>
        <p:spPr>
          <a:xfrm flipH="1" flipV="1" rot="5400000">
            <a:off x="6111720" y="2094840"/>
            <a:ext cx="1927800" cy="413784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phing Square-root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286000" y="1143000"/>
          <a:ext cx="487692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143000"/>
                    <a:ext cx="48769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208080" y="2209680"/>
          <a:ext cx="3090600" cy="7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080" y="2209680"/>
                    <a:ext cx="30906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04920" y="29718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4290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g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80880" y="3962520"/>
            <a:ext cx="3200400" cy="2361960"/>
            <a:chOff x="380880" y="3962520"/>
            <a:chExt cx="3200400" cy="2361960"/>
          </a:xfrm>
        </p:grpSpPr>
        <p:sp>
          <p:nvSpPr>
            <p:cNvPr id="196" name=""/>
            <p:cNvSpPr/>
            <p:nvPr/>
          </p:nvSpPr>
          <p:spPr>
            <a:xfrm>
              <a:off x="380880" y="49528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0880" y="54100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0880" y="58672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880" y="63244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880" y="44956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55000" y="4114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9920" y="3962520"/>
              <a:ext cx="41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44200" y="3962520"/>
              <a:ext cx="41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4" name=""/>
          <p:cNvGraphicFramePr/>
          <p:nvPr/>
        </p:nvGraphicFramePr>
        <p:xfrm>
          <a:off x="1905120" y="2971800"/>
          <a:ext cx="116820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971800"/>
                    <a:ext cx="11682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808280" y="3429000"/>
          <a:ext cx="1460520" cy="63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08280" y="3429000"/>
                    <a:ext cx="14605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80880" y="44197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48769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53341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57913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85960" y="4495680"/>
          <a:ext cx="184788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85960" y="4495680"/>
                    <a:ext cx="18478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666880" y="4572000"/>
          <a:ext cx="78912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66880" y="4572000"/>
                    <a:ext cx="789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914400" y="4952880"/>
          <a:ext cx="1792440" cy="573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14400" y="4952880"/>
                    <a:ext cx="17924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66880" y="5029200"/>
          <a:ext cx="57312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66880" y="502920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885960" y="5410080"/>
          <a:ext cx="1847880" cy="573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85960" y="5410080"/>
                    <a:ext cx="18478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666880" y="5486400"/>
          <a:ext cx="57312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666880" y="548640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885960" y="5867280"/>
          <a:ext cx="184788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85960" y="5867280"/>
                    <a:ext cx="1847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666880" y="5943600"/>
          <a:ext cx="573120" cy="380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66880" y="5943600"/>
                    <a:ext cx="573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" name=""/>
          <p:cNvGrpSpPr/>
          <p:nvPr/>
        </p:nvGrpSpPr>
        <p:grpSpPr>
          <a:xfrm>
            <a:off x="4648320" y="3048120"/>
            <a:ext cx="2743200" cy="2743200"/>
            <a:chOff x="4648320" y="3048120"/>
            <a:chExt cx="2743200" cy="2743200"/>
          </a:xfrm>
        </p:grpSpPr>
        <p:grpSp>
          <p:nvGrpSpPr>
            <p:cNvPr id="229" name=""/>
            <p:cNvGrpSpPr/>
            <p:nvPr/>
          </p:nvGrpSpPr>
          <p:grpSpPr>
            <a:xfrm>
              <a:off x="4648320" y="3048120"/>
              <a:ext cx="2743200" cy="2743200"/>
              <a:chOff x="4648320" y="3048120"/>
              <a:chExt cx="2743200" cy="2743200"/>
            </a:xfrm>
          </p:grpSpPr>
          <p:sp>
            <p:nvSpPr>
              <p:cNvPr id="230" name=""/>
              <p:cNvSpPr/>
              <p:nvPr/>
            </p:nvSpPr>
            <p:spPr>
              <a:xfrm>
                <a:off x="4648320" y="57913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648320" y="54864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648320" y="51814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48320" y="48769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648320" y="45720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648320" y="42670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648320" y="39625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48320" y="36576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48320" y="33526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648320" y="30481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64832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5324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5816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272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6764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7256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7712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8204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8696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419720" y="2819520"/>
            <a:ext cx="3200400" cy="3200400"/>
            <a:chOff x="4419720" y="2819520"/>
            <a:chExt cx="3200400" cy="3200400"/>
          </a:xfrm>
        </p:grpSpPr>
        <p:sp>
          <p:nvSpPr>
            <p:cNvPr id="251" name=""/>
            <p:cNvSpPr/>
            <p:nvPr/>
          </p:nvSpPr>
          <p:spPr>
            <a:xfrm flipV="1">
              <a:off x="4952880" y="28195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45720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876920" y="51055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81480" y="4495680"/>
            <a:ext cx="15264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3886200"/>
            <a:ext cx="15264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0120" y="32767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3" idx="7"/>
          </p:cNvCxnSpPr>
          <p:nvPr/>
        </p:nvCxnSpPr>
        <p:spPr>
          <a:xfrm flipH="1" flipV="1" rot="5400000">
            <a:off x="6111720" y="2094840"/>
            <a:ext cx="1927800" cy="413784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phing Square-root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438280" y="1143000"/>
          <a:ext cx="457200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143000"/>
                    <a:ext cx="45720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228600" y="18288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22860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g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52480" y="2286000"/>
            <a:ext cx="701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Times New Roman"/>
              </a:rPr>
              <a:t>all nonnegative numb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12840" y="2819520"/>
          <a:ext cx="27972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840" y="2819520"/>
                    <a:ext cx="27972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304920" y="34290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38862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g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80880" y="4191120"/>
            <a:ext cx="3200400" cy="2361960"/>
            <a:chOff x="380880" y="4191120"/>
            <a:chExt cx="3200400" cy="2361960"/>
          </a:xfrm>
        </p:grpSpPr>
        <p:sp>
          <p:nvSpPr>
            <p:cNvPr id="270" name=""/>
            <p:cNvSpPr/>
            <p:nvPr/>
          </p:nvSpPr>
          <p:spPr>
            <a:xfrm>
              <a:off x="380880" y="51814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0880" y="56386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0880" y="60958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880" y="65530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0880" y="47242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5000" y="43434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9920" y="4191120"/>
              <a:ext cx="41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44200" y="4191120"/>
              <a:ext cx="41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1943280" y="3429000"/>
          <a:ext cx="109044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3280" y="3429000"/>
                    <a:ext cx="10904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884240" y="3886200"/>
          <a:ext cx="1168560" cy="63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84240" y="3886200"/>
                    <a:ext cx="11685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380880" y="46483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51055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55627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601992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035000" y="4724280"/>
          <a:ext cx="154800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35000" y="4724280"/>
                    <a:ext cx="1548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2577960" y="4800600"/>
          <a:ext cx="57312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7960" y="480060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006560" y="5181480"/>
          <a:ext cx="1606320" cy="573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06560" y="5181480"/>
                    <a:ext cx="16063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2590920" y="5257800"/>
          <a:ext cx="54612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5257800"/>
                    <a:ext cx="546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020600" y="5638680"/>
          <a:ext cx="1578240" cy="573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20600" y="5638680"/>
                    <a:ext cx="15782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577960" y="5715000"/>
          <a:ext cx="57312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77960" y="571500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928800" y="6095880"/>
          <a:ext cx="176040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28800" y="6095880"/>
                    <a:ext cx="1760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577960" y="6172200"/>
          <a:ext cx="573120" cy="380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77960" y="6172200"/>
                    <a:ext cx="573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2" name=""/>
          <p:cNvGrpSpPr/>
          <p:nvPr/>
        </p:nvGrpSpPr>
        <p:grpSpPr>
          <a:xfrm>
            <a:off x="4648320" y="3505320"/>
            <a:ext cx="2743200" cy="2743200"/>
            <a:chOff x="4648320" y="3505320"/>
            <a:chExt cx="2743200" cy="2743200"/>
          </a:xfrm>
        </p:grpSpPr>
        <p:grpSp>
          <p:nvGrpSpPr>
            <p:cNvPr id="303" name=""/>
            <p:cNvGrpSpPr/>
            <p:nvPr/>
          </p:nvGrpSpPr>
          <p:grpSpPr>
            <a:xfrm>
              <a:off x="4648320" y="3505320"/>
              <a:ext cx="2743200" cy="2743200"/>
              <a:chOff x="4648320" y="3505320"/>
              <a:chExt cx="2743200" cy="2743200"/>
            </a:xfrm>
          </p:grpSpPr>
          <p:sp>
            <p:nvSpPr>
              <p:cNvPr id="304" name=""/>
              <p:cNvSpPr/>
              <p:nvPr/>
            </p:nvSpPr>
            <p:spPr>
              <a:xfrm>
                <a:off x="4648320" y="62485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48320" y="59436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648320" y="56386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48320" y="53341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648320" y="50292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648320" y="47242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48320" y="44197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48320" y="41148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48320" y="38098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48320" y="35053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464832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5324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5816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6272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6764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7256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7712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8204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8696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9152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419720" y="3276720"/>
            <a:ext cx="3200400" cy="3200400"/>
            <a:chOff x="4419720" y="3276720"/>
            <a:chExt cx="3200400" cy="3200400"/>
          </a:xfrm>
        </p:grpSpPr>
        <p:sp>
          <p:nvSpPr>
            <p:cNvPr id="325" name=""/>
            <p:cNvSpPr/>
            <p:nvPr/>
          </p:nvSpPr>
          <p:spPr>
            <a:xfrm flipV="1">
              <a:off x="4952880" y="32767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19720" y="5943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5181480" y="5867280"/>
            <a:ext cx="15264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86400" y="55627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525780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77320" y="4952880"/>
            <a:ext cx="15228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182880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ll numbers greater than or equal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 rot="10800000">
            <a:off x="5258160" y="5028480"/>
            <a:ext cx="716220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7" y="6"/>
                </a:moveTo>
                <a:arcTo wR="10800" hR="10800" stAng="-5289408" swAng="5289408"/>
                <a:lnTo>
                  <a:pt x="10800" y="10800"/>
                </a:lnTo>
                <a:close/>
              </a:path>
              <a:path fill="none" w="21600" h="21600">
                <a:moveTo>
                  <a:pt x="11147" y="6"/>
                </a:moveTo>
                <a:arcTo wR="10800" hR="10800" stAng="-5289408" swAng="5289408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phing Square-root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438280" y="1143000"/>
          <a:ext cx="457200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143000"/>
                    <a:ext cx="45720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330120" y="2209680"/>
          <a:ext cx="2762280" cy="7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120" y="2209680"/>
                    <a:ext cx="27622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325440" y="289548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4040" y="335268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g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80880" y="3886200"/>
            <a:ext cx="3200400" cy="2361960"/>
            <a:chOff x="380880" y="3886200"/>
            <a:chExt cx="3200400" cy="2361960"/>
          </a:xfrm>
        </p:grpSpPr>
        <p:sp>
          <p:nvSpPr>
            <p:cNvPr id="342" name=""/>
            <p:cNvSpPr/>
            <p:nvPr/>
          </p:nvSpPr>
          <p:spPr>
            <a:xfrm>
              <a:off x="380880" y="48765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880" y="53337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0880" y="57909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0880" y="62481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0880" y="44193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5000" y="403848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9920" y="3886200"/>
              <a:ext cx="41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44200" y="3886200"/>
              <a:ext cx="41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50" name=""/>
          <p:cNvGraphicFramePr/>
          <p:nvPr/>
        </p:nvGraphicFramePr>
        <p:xfrm>
          <a:off x="1905120" y="2895480"/>
          <a:ext cx="142056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895480"/>
                    <a:ext cx="14205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1905120" y="3352680"/>
          <a:ext cx="1168200" cy="63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3352680"/>
                    <a:ext cx="116820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04920" y="434340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480060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525780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571500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914400" y="4419720"/>
          <a:ext cx="179064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419720"/>
                    <a:ext cx="17906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2577960" y="4495680"/>
          <a:ext cx="57312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7960" y="449568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1006560" y="4876920"/>
          <a:ext cx="1606320" cy="573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06560" y="4876920"/>
                    <a:ext cx="16063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2590920" y="4952880"/>
          <a:ext cx="54612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4952880"/>
                    <a:ext cx="546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1020600" y="5334120"/>
          <a:ext cx="1578240" cy="573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20600" y="5334120"/>
                    <a:ext cx="15782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2577960" y="5410080"/>
          <a:ext cx="57312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77960" y="541008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019160" y="5791320"/>
          <a:ext cx="1579680" cy="533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19160" y="5791320"/>
                    <a:ext cx="15796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577960" y="5867280"/>
          <a:ext cx="573120" cy="3812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77960" y="5867280"/>
                    <a:ext cx="573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4" name=""/>
          <p:cNvGrpSpPr/>
          <p:nvPr/>
        </p:nvGrpSpPr>
        <p:grpSpPr>
          <a:xfrm>
            <a:off x="4876920" y="2895480"/>
            <a:ext cx="2743200" cy="2743200"/>
            <a:chOff x="4876920" y="2895480"/>
            <a:chExt cx="2743200" cy="2743200"/>
          </a:xfrm>
        </p:grpSpPr>
        <p:grpSp>
          <p:nvGrpSpPr>
            <p:cNvPr id="375" name=""/>
            <p:cNvGrpSpPr/>
            <p:nvPr/>
          </p:nvGrpSpPr>
          <p:grpSpPr>
            <a:xfrm>
              <a:off x="4876920" y="2895480"/>
              <a:ext cx="2743200" cy="2743200"/>
              <a:chOff x="4876920" y="2895480"/>
              <a:chExt cx="2743200" cy="2743200"/>
            </a:xfrm>
          </p:grpSpPr>
          <p:sp>
            <p:nvSpPr>
              <p:cNvPr id="376" name=""/>
              <p:cNvSpPr/>
              <p:nvPr/>
            </p:nvSpPr>
            <p:spPr>
              <a:xfrm>
                <a:off x="4876920" y="56386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76920" y="53337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02884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876920" y="47242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76920" y="44193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76920" y="411444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76920" y="38098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76920" y="35049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76920" y="320004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28954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487692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8184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8676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9132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9624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0116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0572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1064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1556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2012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48320" y="2666880"/>
            <a:ext cx="3200400" cy="3200400"/>
            <a:chOff x="4648320" y="2666880"/>
            <a:chExt cx="3200400" cy="3200400"/>
          </a:xfrm>
        </p:grpSpPr>
        <p:sp>
          <p:nvSpPr>
            <p:cNvPr id="397" name=""/>
            <p:cNvSpPr/>
            <p:nvPr/>
          </p:nvSpPr>
          <p:spPr>
            <a:xfrm flipV="1">
              <a:off x="5181840" y="266688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48320" y="53341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800600" y="525780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4952880"/>
            <a:ext cx="15228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19920" y="46483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43800" y="434340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 rot="10800000">
            <a:off x="4877280" y="4419000"/>
            <a:ext cx="716220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7" y="6"/>
                </a:moveTo>
                <a:arcTo wR="10800" hR="10800" stAng="-5289408" swAng="5289408"/>
                <a:lnTo>
                  <a:pt x="10800" y="10800"/>
                </a:lnTo>
                <a:close/>
              </a:path>
              <a:path fill="none" w="21600" h="21600">
                <a:moveTo>
                  <a:pt x="11147" y="6"/>
                </a:moveTo>
                <a:arcTo wR="10800" hR="10800" stAng="-5289408" swAng="5289408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phing Square-root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438280" y="1143000"/>
          <a:ext cx="457200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143000"/>
                    <a:ext cx="45720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268200" y="2209680"/>
          <a:ext cx="2886120" cy="7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8200" y="2209680"/>
                    <a:ext cx="28861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325440" y="289548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4040" y="335268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g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80880" y="3886200"/>
            <a:ext cx="3200400" cy="2361960"/>
            <a:chOff x="380880" y="3886200"/>
            <a:chExt cx="3200400" cy="2361960"/>
          </a:xfrm>
        </p:grpSpPr>
        <p:sp>
          <p:nvSpPr>
            <p:cNvPr id="413" name=""/>
            <p:cNvSpPr/>
            <p:nvPr/>
          </p:nvSpPr>
          <p:spPr>
            <a:xfrm>
              <a:off x="380880" y="48765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0880" y="53337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0880" y="57909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0880" y="62481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0880" y="44193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55000" y="403848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9920" y="3886200"/>
              <a:ext cx="41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44200" y="3886200"/>
              <a:ext cx="41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21" name=""/>
          <p:cNvGraphicFramePr/>
          <p:nvPr/>
        </p:nvGraphicFramePr>
        <p:xfrm>
          <a:off x="2030400" y="2895480"/>
          <a:ext cx="117000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30400" y="2895480"/>
                    <a:ext cx="11700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1905120" y="3352680"/>
          <a:ext cx="1168200" cy="63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3352680"/>
                    <a:ext cx="116820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380880" y="43434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480060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525780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5715000"/>
            <a:ext cx="68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974880" y="4419720"/>
          <a:ext cx="166824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74880" y="4419720"/>
                    <a:ext cx="16682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2577960" y="4495680"/>
          <a:ext cx="57312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7960" y="449568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988920" y="4876920"/>
          <a:ext cx="1641600" cy="573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88920" y="4876920"/>
                    <a:ext cx="16416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2590920" y="4952880"/>
          <a:ext cx="54612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4952880"/>
                    <a:ext cx="546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990720" y="5334120"/>
          <a:ext cx="1638360" cy="573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90720" y="5334120"/>
                    <a:ext cx="16383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2577960" y="5410080"/>
          <a:ext cx="57312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77960" y="541008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912960" y="5791320"/>
          <a:ext cx="1792080" cy="533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12960" y="5791320"/>
                    <a:ext cx="17920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2577960" y="5867280"/>
          <a:ext cx="573120" cy="3812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77960" y="5867280"/>
                    <a:ext cx="573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5" name=""/>
          <p:cNvGrpSpPr/>
          <p:nvPr/>
        </p:nvGrpSpPr>
        <p:grpSpPr>
          <a:xfrm>
            <a:off x="4038480" y="2895480"/>
            <a:ext cx="2743200" cy="2743200"/>
            <a:chOff x="4038480" y="2895480"/>
            <a:chExt cx="2743200" cy="2743200"/>
          </a:xfrm>
        </p:grpSpPr>
        <p:grpSp>
          <p:nvGrpSpPr>
            <p:cNvPr id="446" name=""/>
            <p:cNvGrpSpPr/>
            <p:nvPr/>
          </p:nvGrpSpPr>
          <p:grpSpPr>
            <a:xfrm>
              <a:off x="4038480" y="2895480"/>
              <a:ext cx="2743200" cy="2743200"/>
              <a:chOff x="4038480" y="2895480"/>
              <a:chExt cx="2743200" cy="2743200"/>
            </a:xfrm>
          </p:grpSpPr>
          <p:sp>
            <p:nvSpPr>
              <p:cNvPr id="447" name=""/>
              <p:cNvSpPr/>
              <p:nvPr/>
            </p:nvSpPr>
            <p:spPr>
              <a:xfrm>
                <a:off x="4038480" y="56386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38480" y="53337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38480" y="502884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38480" y="47242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038480" y="44193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038480" y="411444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038480" y="38098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038480" y="35049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038480" y="320004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038480" y="28954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403848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4340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4832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5288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5780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6272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6728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7220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7712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8168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3809880" y="2666880"/>
            <a:ext cx="3200400" cy="3200400"/>
            <a:chOff x="3809880" y="2666880"/>
            <a:chExt cx="3200400" cy="3200400"/>
          </a:xfrm>
        </p:grpSpPr>
        <p:sp>
          <p:nvSpPr>
            <p:cNvPr id="468" name=""/>
            <p:cNvSpPr/>
            <p:nvPr/>
          </p:nvSpPr>
          <p:spPr>
            <a:xfrm flipV="1">
              <a:off x="4343400" y="266688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09880" y="53341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5486400" y="525780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91320" y="4952880"/>
            <a:ext cx="15228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46483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29600" y="434340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 rot="10800000">
            <a:off x="5563080" y="4419000"/>
            <a:ext cx="716220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7" y="6"/>
                </a:moveTo>
                <a:arcTo wR="10800" hR="10800" stAng="-5289408" swAng="5289408"/>
                <a:lnTo>
                  <a:pt x="10800" y="10800"/>
                </a:lnTo>
                <a:close/>
              </a:path>
              <a:path fill="none" w="21600" h="21600">
                <a:moveTo>
                  <a:pt x="11147" y="6"/>
                </a:moveTo>
                <a:arcTo wR="10800" hR="10800" stAng="-5289408" swAng="5289408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phing Square-root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23880" y="144792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mpare the Graph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80880" y="1905120"/>
          <a:ext cx="1560600" cy="77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15606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" name=""/>
          <p:cNvGrpSpPr/>
          <p:nvPr/>
        </p:nvGrpSpPr>
        <p:grpSpPr>
          <a:xfrm>
            <a:off x="533520" y="2743200"/>
            <a:ext cx="1143000" cy="2361960"/>
            <a:chOff x="533520" y="2743200"/>
            <a:chExt cx="1143000" cy="2361960"/>
          </a:xfrm>
        </p:grpSpPr>
        <p:grpSp>
          <p:nvGrpSpPr>
            <p:cNvPr id="481" name=""/>
            <p:cNvGrpSpPr/>
            <p:nvPr/>
          </p:nvGrpSpPr>
          <p:grpSpPr>
            <a:xfrm>
              <a:off x="533520" y="3276360"/>
              <a:ext cx="1143000" cy="1828800"/>
              <a:chOff x="533520" y="3276360"/>
              <a:chExt cx="1143000" cy="1828800"/>
            </a:xfrm>
          </p:grpSpPr>
          <p:sp>
            <p:nvSpPr>
              <p:cNvPr id="482" name=""/>
              <p:cNvSpPr/>
              <p:nvPr/>
            </p:nvSpPr>
            <p:spPr>
              <a:xfrm>
                <a:off x="533520" y="373356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3520" y="419076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464796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520" y="510516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3520" y="327636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1008360" y="289548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2200" y="2743200"/>
              <a:ext cx="416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219320" y="2743200"/>
              <a:ext cx="41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533520" y="320040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3520" y="365760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411480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457200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320040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43000" y="365760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143000" y="411480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143000" y="457200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971800" y="3200400"/>
            <a:ext cx="2743200" cy="2743200"/>
            <a:chOff x="2971800" y="3200400"/>
            <a:chExt cx="2743200" cy="2743200"/>
          </a:xfrm>
        </p:grpSpPr>
        <p:grpSp>
          <p:nvGrpSpPr>
            <p:cNvPr id="499" name=""/>
            <p:cNvGrpSpPr/>
            <p:nvPr/>
          </p:nvGrpSpPr>
          <p:grpSpPr>
            <a:xfrm>
              <a:off x="2971800" y="3200400"/>
              <a:ext cx="2743200" cy="2743200"/>
              <a:chOff x="2971800" y="3200400"/>
              <a:chExt cx="2743200" cy="2743200"/>
            </a:xfrm>
          </p:grpSpPr>
          <p:sp>
            <p:nvSpPr>
              <p:cNvPr id="500" name=""/>
              <p:cNvSpPr/>
              <p:nvPr/>
            </p:nvSpPr>
            <p:spPr>
              <a:xfrm>
                <a:off x="2971800" y="59436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71800" y="56386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971800" y="53337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971800" y="50292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971800" y="47242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971800" y="44193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971800" y="41148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971800" y="38098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971800" y="35049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971800" y="32004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297180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7672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8164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620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9112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49604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0060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0552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41044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1500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743200" y="2971800"/>
            <a:ext cx="3200400" cy="3200400"/>
            <a:chOff x="2743200" y="2971800"/>
            <a:chExt cx="3200400" cy="3200400"/>
          </a:xfrm>
        </p:grpSpPr>
        <p:sp>
          <p:nvSpPr>
            <p:cNvPr id="521" name=""/>
            <p:cNvSpPr/>
            <p:nvPr/>
          </p:nvSpPr>
          <p:spPr>
            <a:xfrm flipV="1">
              <a:off x="3276720" y="297180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3200" y="563904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200400" y="55627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05320" y="525780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19720" y="4952880"/>
            <a:ext cx="15228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943600" y="46483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 rot="10800000">
            <a:off x="3277080" y="4723560"/>
            <a:ext cx="716220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7" y="6"/>
                </a:moveTo>
                <a:arcTo wR="10800" hR="10800" stAng="-5289408" swAng="5289408"/>
                <a:lnTo>
                  <a:pt x="10800" y="10800"/>
                </a:lnTo>
                <a:close/>
              </a:path>
              <a:path fill="none" w="21600" h="21600">
                <a:moveTo>
                  <a:pt x="11147" y="6"/>
                </a:moveTo>
                <a:arcTo wR="10800" hR="10800" stAng="-5289408" swAng="5289408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380880" y="1905120"/>
          <a:ext cx="230688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905120"/>
                    <a:ext cx="230688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 flipV="1" rot="10800000">
            <a:off x="3277080" y="3809160"/>
            <a:ext cx="716220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7" y="6"/>
                </a:moveTo>
                <a:arcTo wR="10800" hR="10800" stAng="-5289408" swAng="5289408"/>
                <a:lnTo>
                  <a:pt x="10800" y="10800"/>
                </a:lnTo>
                <a:close/>
              </a:path>
              <a:path fill="none" w="21600" h="21600">
                <a:moveTo>
                  <a:pt x="11147" y="6"/>
                </a:moveTo>
                <a:arcTo wR="10800" hR="10800" stAng="-5289408" swAng="5289408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 rot="10800000">
            <a:off x="3277080" y="5104800"/>
            <a:ext cx="716220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7" y="6"/>
                </a:moveTo>
                <a:arcTo wR="10800" hR="10800" stAng="-5289408" swAng="5289408"/>
                <a:lnTo>
                  <a:pt x="10800" y="10800"/>
                </a:lnTo>
                <a:close/>
              </a:path>
              <a:path fill="none" w="21600" h="21600">
                <a:moveTo>
                  <a:pt x="11147" y="6"/>
                </a:moveTo>
                <a:arcTo wR="10800" hR="10800" stAng="-5289408" swAng="5289408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3505320" y="1905120"/>
          <a:ext cx="2265120" cy="77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1905120"/>
                    <a:ext cx="22651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4" name=""/>
          <p:cNvSpPr/>
          <p:nvPr/>
        </p:nvSpPr>
        <p:spPr>
          <a:xfrm flipV="1" rot="10800000">
            <a:off x="4191480" y="4723560"/>
            <a:ext cx="716220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7" y="6"/>
                </a:moveTo>
                <a:arcTo wR="10800" hR="10800" stAng="-5289408" swAng="5289408"/>
                <a:lnTo>
                  <a:pt x="10800" y="10800"/>
                </a:lnTo>
                <a:close/>
              </a:path>
              <a:path fill="none" w="21600" h="21600">
                <a:moveTo>
                  <a:pt x="11147" y="6"/>
                </a:moveTo>
                <a:arcTo wR="10800" hR="10800" stAng="-5289408" swAng="5289408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 rot="10800000">
            <a:off x="2972160" y="4723560"/>
            <a:ext cx="716220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7" y="6"/>
                </a:moveTo>
                <a:arcTo wR="10800" hR="10800" stAng="-5289408" swAng="5289408"/>
                <a:lnTo>
                  <a:pt x="10800" y="10800"/>
                </a:lnTo>
                <a:close/>
              </a:path>
              <a:path fill="none" w="21600" h="21600">
                <a:moveTo>
                  <a:pt x="11147" y="6"/>
                </a:moveTo>
                <a:arcTo wR="10800" hR="10800" stAng="-5289408" swAng="5289408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3505320" y="1905120"/>
          <a:ext cx="3006720" cy="77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1905120"/>
                    <a:ext cx="30067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 flipV="1" rot="10800000">
            <a:off x="3886560" y="3809160"/>
            <a:ext cx="716220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7" y="6"/>
                </a:moveTo>
                <a:arcTo wR="10800" hR="10800" stAng="-5289408" swAng="5289408"/>
                <a:lnTo>
                  <a:pt x="10800" y="10800"/>
                </a:lnTo>
                <a:close/>
              </a:path>
              <a:path fill="none" w="21600" h="21600">
                <a:moveTo>
                  <a:pt x="11147" y="6"/>
                </a:moveTo>
                <a:arcTo wR="10800" hR="10800" stAng="-5289408" swAng="5289408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3384720" y="1905120"/>
          <a:ext cx="3247920" cy="77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84720" y="1905120"/>
                    <a:ext cx="32479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41" name=""/>
          <p:cNvCxnSpPr/>
          <p:nvPr/>
        </p:nvCxnSpPr>
        <p:spPr>
          <a:xfrm flipH="1" flipV="1" rot="5400000">
            <a:off x="4381200" y="2628360"/>
            <a:ext cx="1927800" cy="413748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aphicFrame>
        <p:nvGraphicFramePr>
          <p:cNvPr id="542" name=""/>
          <p:cNvGraphicFramePr/>
          <p:nvPr/>
        </p:nvGraphicFramePr>
        <p:xfrm>
          <a:off x="3505320" y="6080040"/>
          <a:ext cx="3170160" cy="7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6080040"/>
                    <a:ext cx="31701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4114800" y="4952880"/>
            <a:ext cx="15228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19720" y="4038480"/>
            <a:ext cx="15228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34120" y="3124080"/>
            <a:ext cx="15228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91120" y="2590920"/>
            <a:ext cx="2286000" cy="2438280"/>
          </a:xfrm>
          <a:custGeom>
            <a:avLst/>
            <a:gdLst/>
            <a:ahLst/>
            <a:rect l="l" t="t" r="r" b="b"/>
            <a:pathLst>
              <a:path w="1440" h="1536">
                <a:moveTo>
                  <a:pt x="0" y="1536"/>
                </a:moveTo>
                <a:cubicBezTo>
                  <a:pt x="72" y="1256"/>
                  <a:pt x="144" y="976"/>
                  <a:pt x="384" y="720"/>
                </a:cubicBezTo>
                <a:cubicBezTo>
                  <a:pt x="624" y="464"/>
                  <a:pt x="1264" y="120"/>
                  <a:pt x="1440" y="0"/>
                </a:cubicBezTo>
              </a:path>
            </a:pathLst>
          </a:custGeom>
          <a:noFill/>
          <a:ln w="38160">
            <a:solidFill>
              <a:srgbClr val="99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phing Square-root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5-03-17T15:04:08Z</dcterms:modified>
  <cp:revision>60</cp:revision>
  <dc:subject/>
  <dc:title>No Slide Title</dc:title>
</cp:coreProperties>
</file>